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B42-8C37-4428-A87A-1699EA3E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E12-1C9D-494A-AD13-733320EC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EFE-6CE1-487A-A75D-D15F58BD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CB2-5395-46CD-A695-CC4917B4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C9CC-91F0-4ECE-9490-915B3475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08D9-326D-4C12-8FDA-0027B4AB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307B-0619-4CD8-91C4-27E8E2E4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9195-E555-4031-B0FE-FDA285E5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269D-1932-4D02-A75B-A85A6B8A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E93D-BAF3-4DC3-BED1-4DB73992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9CAB-C70A-4F5A-82C0-B14EA3B8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245-3B84-4AD9-BEC2-7ECF5499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338F-468B-4A6F-B335-782DDAB7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556A-1964-4F86-8112-58786911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9580-8A82-40EA-BFCF-4E4E25A4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8819-7E78-4FB9-9536-E55C250F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85CC-A974-422B-B507-D3DE94A1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C98-A206-45F1-BA2B-5B555D3F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9D3-3361-412A-BB55-0920EDC0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97C-B9F4-4ECB-AD8E-BFF8AEC6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917-30F4-4606-9150-3742E2CA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30D-E025-4E6C-A32E-6EA04FF0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D85-AAE6-4CBE-9E5B-DDCFCA38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013-B0A0-4EDA-ADC6-43C8960C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6335-6907-4DA0-AEBA-622691BAF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4047-ECCC-4076-90E3-96488B06F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ahoma"/>
              </a:rPr>
              <a:t>De ce este necesar sa comunicam cu ceilalti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6010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9e9f9"/>
                </a:solidFill>
                <a:latin typeface="Arial Narrow"/>
              </a:rPr>
              <a:t>Dialogul este puntea dintre trecut şi viito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n ce situatii putem comunic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e ce trebuie sa ne respectam partenerii de convesrati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15160" y="1042920"/>
            <a:ext cx="8116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0000"/>
                </a:solidFill>
                <a:latin typeface="Arial Narrow"/>
              </a:rPr>
              <a:t>Care sunt situatiile in care se foloseste dialogu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0000"/>
                </a:solidFill>
                <a:latin typeface="Arial Narrow"/>
              </a:rPr>
              <a:t>Ce rol are conversatia in rezolvarea diferitelor  conflicte</a:t>
            </a:r>
            <a:r>
              <a:rPr b="1" i="1" lang="ro-RO" sz="4000" spc="-1" strike="noStrike">
                <a:solidFill>
                  <a:srgbClr val="ff0000"/>
                </a:solidFill>
                <a:latin typeface="Arial Narro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246680" y="284760"/>
            <a:ext cx="6573240" cy="4841280"/>
            <a:chOff x="1246680" y="284760"/>
            <a:chExt cx="6573240" cy="4841280"/>
          </a:xfrm>
        </p:grpSpPr>
        <p:sp>
          <p:nvSpPr>
            <p:cNvPr id="88" name="_s24588"/>
            <p:cNvSpPr/>
            <p:nvPr/>
          </p:nvSpPr>
          <p:spPr>
            <a:xfrm flipH="1">
              <a:off x="2950920" y="3634200"/>
              <a:ext cx="788040" cy="37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_s24587"/>
            <p:cNvSpPr/>
            <p:nvPr/>
          </p:nvSpPr>
          <p:spPr>
            <a:xfrm>
              <a:off x="1246680" y="3636720"/>
              <a:ext cx="1827360" cy="1489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-un mod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punere(in oper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terar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24586"/>
            <p:cNvSpPr/>
            <p:nvPr/>
          </p:nvSpPr>
          <p:spPr>
            <a:xfrm>
              <a:off x="5324400" y="3636720"/>
              <a:ext cx="791280" cy="370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24585"/>
            <p:cNvSpPr/>
            <p:nvPr/>
          </p:nvSpPr>
          <p:spPr>
            <a:xfrm>
              <a:off x="5992560" y="3634200"/>
              <a:ext cx="1827360" cy="14896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-o inlantuire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plic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24584"/>
            <p:cNvSpPr/>
            <p:nvPr/>
          </p:nvSpPr>
          <p:spPr>
            <a:xfrm flipV="1">
              <a:off x="4533480" y="1774800"/>
              <a:ext cx="0" cy="74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24583"/>
            <p:cNvSpPr/>
            <p:nvPr/>
          </p:nvSpPr>
          <p:spPr>
            <a:xfrm>
              <a:off x="3619800" y="284760"/>
              <a:ext cx="1827360" cy="14896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-un mijloc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munica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24582"/>
            <p:cNvSpPr/>
            <p:nvPr/>
          </p:nvSpPr>
          <p:spPr>
            <a:xfrm>
              <a:off x="3619800" y="2519640"/>
              <a:ext cx="1827360" cy="1489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e este dialogul?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GULI DE REALIZARE A DIALOGULUI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Stabiliti trei reguli pe care le considerati esentiale pentru realizarea unei conversatii eficien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295280" y="1828800"/>
          <a:ext cx="6857640" cy="4266720"/>
        </p:xfrm>
        <a:graphic>
          <a:graphicData uri="http://schemas.openxmlformats.org/drawingml/2006/table">
            <a:tbl>
              <a:tblPr/>
              <a:tblGrid>
                <a:gridCol w="2286000"/>
                <a:gridCol w="2257200"/>
                <a:gridCol w="2314440"/>
              </a:tblGrid>
              <a:tr h="14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S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VREAU SA S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9e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AM INVAT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27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9e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5ffff"/>
                    </a:solidFill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1360" y="380880"/>
            <a:ext cx="7929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mpletati tabelul urmator cu    informatii despre dialog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1:23:57Z</dcterms:created>
  <dc:creator> MARIANA MOREA</dc:creator>
  <dc:description/>
  <dc:language>en-US</dc:language>
  <cp:lastModifiedBy>mariana</cp:lastModifiedBy>
  <dcterms:modified xsi:type="dcterms:W3CDTF">2010-06-15T13:07:03Z</dcterms:modified>
  <cp:revision>12</cp:revision>
  <dc:subject/>
  <dc:title>PREZENTARE IDENTIFICARE NEVOI</dc:title>
</cp:coreProperties>
</file>